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AF7-0BC1-4C3D-A7FD-483816A8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45E-D320-4B04-B6F2-F5653149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A81-35C0-4BA4-AD9C-77DFB0C3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DFC-981E-4AA7-AE54-EC909586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657-8AA8-4F7B-B8B5-A33214DE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757-77B7-460D-B628-8385802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51A-E92F-4C7A-A345-C780101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E6D-3065-4986-A871-A01EB82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946-8D5C-4C5A-A48E-61FB650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9DA-606A-4C7A-8EFE-3149A25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9CC-92E5-4FF3-A10C-D55E09E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E88-4A23-4482-ADA5-09DBC1F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A5D-5A59-4B33-8101-EE3F444A5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 is a CONSTA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each temp, the reaction has a unique K that won’t change for that temp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mperature affects rate and 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quilibrium concentrations won’t be the same, only 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quilibrium position is a set of concentrations at equilibri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an unlimited number equilibrium posi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e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ly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1.000 M    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921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1.000 M   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763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0 M       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157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95480" y="1828800"/>
            <a:ext cx="916200" cy="382320"/>
            <a:chOff x="2895480" y="1828800"/>
            <a:chExt cx="916200" cy="382320"/>
          </a:xfrm>
        </p:grpSpPr>
        <p:sp>
          <p:nvSpPr>
            <p:cNvPr id="114" name=""/>
            <p:cNvSpPr/>
            <p:nvPr/>
          </p:nvSpPr>
          <p:spPr>
            <a:xfrm>
              <a:off x="2895480" y="18288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20574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e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0 M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399 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0 M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1.197 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1.000 M       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203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is the same no matter what the amount of starting materi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95480" y="1828800"/>
            <a:ext cx="916200" cy="382320"/>
            <a:chOff x="2895480" y="1828800"/>
            <a:chExt cx="916200" cy="382320"/>
          </a:xfrm>
        </p:grpSpPr>
        <p:sp>
          <p:nvSpPr>
            <p:cNvPr id="119" name=""/>
            <p:cNvSpPr/>
            <p:nvPr/>
          </p:nvSpPr>
          <p:spPr>
            <a:xfrm>
              <a:off x="2895480" y="18288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20574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 reactions are gaseo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= (n/V)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= C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is a concentration in moles/Li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= P/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Kp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[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[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1676520"/>
            <a:ext cx="916200" cy="382320"/>
            <a:chOff x="4495680" y="1676520"/>
            <a:chExt cx="916200" cy="382320"/>
          </a:xfrm>
        </p:grpSpPr>
        <p:sp>
          <p:nvSpPr>
            <p:cNvPr id="126" name=""/>
            <p:cNvSpPr/>
            <p:nvPr/>
          </p:nvSpPr>
          <p:spPr>
            <a:xfrm>
              <a:off x="4495680" y="167652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190512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666880" y="3276720"/>
            <a:ext cx="2667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876920"/>
            <a:ext cx="2666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 Kp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= Kp RT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438280"/>
            <a:ext cx="3962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2578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+ bB           cC + d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(R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c+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(R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T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(c+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)-(a+b) =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T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+d)-(a+b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moles of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3200" y="1676520"/>
            <a:ext cx="915840" cy="382320"/>
            <a:chOff x="2743200" y="1676520"/>
            <a:chExt cx="915840" cy="382320"/>
          </a:xfrm>
        </p:grpSpPr>
        <p:sp>
          <p:nvSpPr>
            <p:cNvPr id="137" name=""/>
            <p:cNvSpPr/>
            <p:nvPr/>
          </p:nvSpPr>
          <p:spPr>
            <a:xfrm>
              <a:off x="2743200" y="16765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19051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905120" y="289548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895480"/>
            <a:ext cx="35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267080"/>
            <a:ext cx="4114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mogeneous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 far every example dealt with reactants and products where all were in the same phas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an use K in terms of either concentration or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eous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the reaction involves pure solids or pure liquids the concentration of the solid or the liquid doesn’t chang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, we can leave them out of the equilibrium express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s)         2HI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[HI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ncentration of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[HI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1676520"/>
            <a:ext cx="915840" cy="382320"/>
            <a:chOff x="3505320" y="1676520"/>
            <a:chExt cx="915840" cy="382320"/>
          </a:xfrm>
        </p:grpSpPr>
        <p:sp>
          <p:nvSpPr>
            <p:cNvPr id="149" name=""/>
            <p:cNvSpPr/>
            <p:nvPr/>
          </p:nvSpPr>
          <p:spPr>
            <a:xfrm>
              <a:off x="3505320" y="16765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19051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23880" y="297180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5410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are reversib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B        C + D ( forwar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D        A + B (revers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ly there is only A and B so only the forward reaction is possi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C and D build up, the reverse reaction speeds up while the forward reaction slows dow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ventually the rates are eq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90512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51460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Reaction Quotient (Q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lls you the directing the reaction will go to reach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d the same as the equilibrium constant, but for a system not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 =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[Produc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Reactants]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value to equilibrium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Q tells 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K&gt;Q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enough produc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 to righ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K&lt;Q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o many produc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 to lef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Q=K  system is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NOCl(g)         2NO(g)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1.55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 at 35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n experiment  0.10 mol NOCl, 0.0010 mol NO(g) and 0.00010 mol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mixed in 2.0 L flas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ich direction will the reaction proceed to reach equilibrium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8120" y="2286000"/>
            <a:ext cx="839520" cy="458640"/>
            <a:chOff x="3048120" y="2286000"/>
            <a:chExt cx="839520" cy="458640"/>
          </a:xfrm>
        </p:grpSpPr>
        <p:sp>
          <p:nvSpPr>
            <p:cNvPr id="160" name=""/>
            <p:cNvSpPr/>
            <p:nvPr/>
          </p:nvSpPr>
          <p:spPr>
            <a:xfrm>
              <a:off x="3048120" y="228600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8120" y="25909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olving Equilibrium Proble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iven the starting concentrations and one equilibrium concentr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stoichiometry to figure out other concentrations and 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ider the following reaction at 600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 certain experiment 2.0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1.50 mol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3.0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placed in a 1.00 L flask. At equilibrium 3.5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found to be present. Calculat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quilibrium concentrations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343400" y="1828800"/>
            <a:ext cx="839880" cy="458640"/>
            <a:chOff x="4343400" y="1828800"/>
            <a:chExt cx="839880" cy="458640"/>
          </a:xfrm>
        </p:grpSpPr>
        <p:sp>
          <p:nvSpPr>
            <p:cNvPr id="166" name=""/>
            <p:cNvSpPr/>
            <p:nvPr/>
          </p:nvSpPr>
          <p:spPr>
            <a:xfrm>
              <a:off x="4343400" y="182880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133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ider the same reaction at 600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 different experiment .500 mol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.350 mol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placed in a 1.000 L container. When the system reaches equilibrium 0.045 mol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prese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final concentrations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K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891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f you’re not given an equilibrium concentration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ize of K will determine what approach to tak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rst let’s look at the case of a LARGE value of K ( &gt;100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lows us to make simplifying assump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2HI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7.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 25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equilibrium concentrations  if a 5.00 L container initially contains 15.9 g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94 g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(15.7g/2.02)/5.00 L = 1.56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(294g/253.8)/5.00L = 0.23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I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1676520"/>
            <a:ext cx="839520" cy="458640"/>
            <a:chOff x="3733920" y="1676520"/>
            <a:chExt cx="839520" cy="458640"/>
          </a:xfrm>
        </p:grpSpPr>
        <p:sp>
          <p:nvSpPr>
            <p:cNvPr id="174" name=""/>
            <p:cNvSpPr/>
            <p:nvPr/>
          </p:nvSpPr>
          <p:spPr>
            <a:xfrm>
              <a:off x="3733920" y="16765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198108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= 0, which is &lt;K so more product will be form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ume that since K is large, then the reaction will go to comple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t up table of initial, final and equilibrium in concentra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29286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ing to stoichiometry we can fi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56M -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I =  twice change i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I = 0 +2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762120"/>
            <a:ext cx="792468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HI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initi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56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 M       0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chang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quil.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762120"/>
            <a:ext cx="7086600" cy="495288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143360" y="2514960"/>
            <a:ext cx="4038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57150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01992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-2667240"/>
            <a:ext cx="112770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414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43400"/>
            <a:ext cx="1447920" cy="0"/>
          </a:xfrm>
          <a:prstGeom prst="line">
            <a:avLst/>
          </a:prstGeom>
          <a:ln w="414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343400"/>
            <a:ext cx="10667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7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76"/>
              </a:path>
            </a:pathLst>
          </a:custGeom>
          <a:noFill/>
          <a:ln cap="rnd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600200"/>
            <a:ext cx="358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Forward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952880"/>
            <a:ext cx="3581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Revers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895480" y="4724280"/>
            <a:ext cx="1067040" cy="457200"/>
          </a:xfrm>
          <a:prstGeom prst="line">
            <a:avLst/>
          </a:prstGeom>
          <a:ln w="25560">
            <a:solidFill>
              <a:srgbClr val="e84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057400"/>
            <a:ext cx="380880" cy="5335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7339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297180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w plug these values into the equilibrium expr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 (2X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7.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1.56-X)(0.232-X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76212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HI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initial      1.56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 M       0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change    -X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qu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1.56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648320"/>
            <a:ext cx="297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0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solve for X we get 0.23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e can find the other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.328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= 0.464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ClO(g) K = 1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experiment 0.100 mol ClO, 1.00 mol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0100 mo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ixed in a 4.00 L fl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not at equilibrium, which way will it shi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equilibrium concent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19920" y="1676520"/>
            <a:ext cx="839520" cy="458640"/>
            <a:chOff x="6019920" y="1676520"/>
            <a:chExt cx="839520" cy="458640"/>
          </a:xfrm>
        </p:grpSpPr>
        <p:sp>
          <p:nvSpPr>
            <p:cNvPr id="186" name=""/>
            <p:cNvSpPr/>
            <p:nvPr/>
          </p:nvSpPr>
          <p:spPr>
            <a:xfrm>
              <a:off x="6019920" y="16765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198108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NOCl          2NO +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 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1.20 mol NOCl, 0.45 mol of NO and 0.87 mol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ixed in a 1 L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equilibrium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[NO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  = (0.45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0.87) = 0.15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NOCl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(1.20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14800" y="2133720"/>
            <a:ext cx="839880" cy="458640"/>
            <a:chOff x="4114800" y="2133720"/>
            <a:chExt cx="839880" cy="458640"/>
          </a:xfrm>
        </p:grpSpPr>
        <p:sp>
          <p:nvSpPr>
            <p:cNvPr id="191" name=""/>
            <p:cNvSpPr/>
            <p:nvPr/>
          </p:nvSpPr>
          <p:spPr>
            <a:xfrm>
              <a:off x="4114800" y="2133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24382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556272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685800"/>
            <a:ext cx="777240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351756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685800"/>
            <a:ext cx="777240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0.45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0.87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3352680"/>
            <a:ext cx="7924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w we can write equilibrium constan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(.45 + 2X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0.87 + X)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1.20 – 2X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6E-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85800"/>
            <a:ext cx="777240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0.45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0.87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4572000"/>
            <a:ext cx="4191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Proble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ClO(g)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6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n experiment 0.100 mol ClO(g), 1.00 mol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1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mixed in a 4.00 L contai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equilibrium concentr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29000" y="2209680"/>
            <a:ext cx="839880" cy="458640"/>
            <a:chOff x="3429000" y="2209680"/>
            <a:chExt cx="839880" cy="458640"/>
          </a:xfrm>
        </p:grpSpPr>
        <p:sp>
          <p:nvSpPr>
            <p:cNvPr id="205" name=""/>
            <p:cNvSpPr/>
            <p:nvPr/>
          </p:nvSpPr>
          <p:spPr>
            <a:xfrm>
              <a:off x="3429000" y="220968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9000" y="2514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         2 HI(g)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=38.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s the equilibrium concentrations if 1.800 mol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1.600 mol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2.600 mol HI are mixed in a 2.000 L container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1828800"/>
            <a:ext cx="839880" cy="306360"/>
            <a:chOff x="3657600" y="1828800"/>
            <a:chExt cx="839880" cy="306360"/>
          </a:xfrm>
        </p:grpSpPr>
        <p:sp>
          <p:nvSpPr>
            <p:cNvPr id="210" name=""/>
            <p:cNvSpPr/>
            <p:nvPr/>
          </p:nvSpPr>
          <p:spPr>
            <a:xfrm>
              <a:off x="3657600" y="1828800"/>
              <a:ext cx="83988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0" y="48"/>
                  </a:moveTo>
                  <a:lnTo>
                    <a:pt x="528" y="48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7600" y="2057400"/>
              <a:ext cx="83988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 Involving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lved exactly the same, with same rules for choosing X depending on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         2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.131 atm. What are the equilibrium pressures if a flask initially contains 1.000 atm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91320" y="2819520"/>
            <a:ext cx="839520" cy="306360"/>
            <a:chOff x="5791320" y="2819520"/>
            <a:chExt cx="839520" cy="306360"/>
          </a:xfrm>
        </p:grpSpPr>
        <p:sp>
          <p:nvSpPr>
            <p:cNvPr id="215" name=""/>
            <p:cNvSpPr/>
            <p:nvPr/>
          </p:nvSpPr>
          <p:spPr>
            <a:xfrm>
              <a:off x="5791320" y="2819520"/>
              <a:ext cx="83952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0" y="48"/>
                  </a:moveTo>
                  <a:lnTo>
                    <a:pt x="528" y="48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1320" y="3048120"/>
              <a:ext cx="83952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equal at  Equilibrium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tes are eq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entrations are no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tes are determined by concentrations and activation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oncentrations do not change at equilibriu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 if the reaction is very slow, no significant change will occu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 Cha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a stress is applied to a system at equilibrium, the position of the equilibrium will shift to reduce the stres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 Types of str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387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amounts of reactants and/or produc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product makes K&l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ing reactant makes K&l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reactant makes K&g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ing product makes K&g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e the effect on Q, will tell you the direction of shif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7040" y="213372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528" y="96"/>
                </a:moveTo>
                <a:lnTo>
                  <a:pt x="0" y="96"/>
                </a:lnTo>
                <a:lnTo>
                  <a:pt x="192" y="0"/>
                </a:lnTo>
                <a:lnTo>
                  <a:pt x="192" y="192"/>
                </a:lnTo>
                <a:lnTo>
                  <a:pt x="0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77040" y="274320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528" y="96"/>
                </a:moveTo>
                <a:lnTo>
                  <a:pt x="0" y="96"/>
                </a:lnTo>
                <a:lnTo>
                  <a:pt x="192" y="0"/>
                </a:lnTo>
                <a:lnTo>
                  <a:pt x="192" y="192"/>
                </a:lnTo>
                <a:lnTo>
                  <a:pt x="0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7040" y="342900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0" y="96"/>
                </a:moveTo>
                <a:lnTo>
                  <a:pt x="528" y="96"/>
                </a:lnTo>
                <a:lnTo>
                  <a:pt x="336" y="192"/>
                </a:lnTo>
                <a:lnTo>
                  <a:pt x="336" y="0"/>
                </a:lnTo>
                <a:lnTo>
                  <a:pt x="528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7040" y="403848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0" y="96"/>
                </a:moveTo>
                <a:lnTo>
                  <a:pt x="528" y="96"/>
                </a:lnTo>
                <a:lnTo>
                  <a:pt x="336" y="192"/>
                </a:lnTo>
                <a:lnTo>
                  <a:pt x="336" y="0"/>
                </a:lnTo>
                <a:lnTo>
                  <a:pt x="528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changing volu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stem will move in the direction that has the least moles of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partial pressures (and concentrations) change a new equilibrium must be reach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stem tries to minimize the moles of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in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adding an inert g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tial pressures of reactants and product are not chang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 effect on equilibrium posi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in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fects the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rat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f both the forward and reverse reac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n’t just change the equilibrium position, changes the equilibrium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rection of the shift depends on whether it is exo- or endothermi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otherm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&lt;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eases he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heat as a produ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sing temperature push toward reacta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s to lef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&gt;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es he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heat as a reac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sing temperature push toward produc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s to r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aw of Mass 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any rea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A + bB          cC + d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=  [C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PRODUCTS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pow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[A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REACTANTS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spcAft>
                <a:spcPts val="374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is called the equilibrium consta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spcAft>
                <a:spcPts val="374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how we indicate a reversible re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35268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90920" y="2362320"/>
            <a:ext cx="838080" cy="380520"/>
            <a:chOff x="2590920" y="2362320"/>
            <a:chExt cx="838080" cy="380520"/>
          </a:xfrm>
        </p:grpSpPr>
        <p:grpSp>
          <p:nvGrpSpPr>
            <p:cNvPr id="70" name=""/>
            <p:cNvGrpSpPr/>
            <p:nvPr/>
          </p:nvGrpSpPr>
          <p:grpSpPr>
            <a:xfrm>
              <a:off x="2590920" y="2362320"/>
              <a:ext cx="838080" cy="152280"/>
              <a:chOff x="2590920" y="2362320"/>
              <a:chExt cx="838080" cy="152280"/>
            </a:xfrm>
          </p:grpSpPr>
          <p:sp>
            <p:nvSpPr>
              <p:cNvPr id="71" name=""/>
              <p:cNvSpPr/>
              <p:nvPr/>
            </p:nvSpPr>
            <p:spPr>
              <a:xfrm>
                <a:off x="2590920" y="251460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00400" y="2362320"/>
                <a:ext cx="22824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590920" y="2590560"/>
              <a:ext cx="838080" cy="152280"/>
              <a:chOff x="2590920" y="2590560"/>
              <a:chExt cx="838080" cy="1522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2590920" y="259092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2590920" y="2590560"/>
                <a:ext cx="22824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3581280" y="3352680"/>
            <a:ext cx="373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94920" y="4876920"/>
            <a:ext cx="838800" cy="380520"/>
            <a:chOff x="1294920" y="4876920"/>
            <a:chExt cx="838800" cy="380520"/>
          </a:xfrm>
        </p:grpSpPr>
        <p:grpSp>
          <p:nvGrpSpPr>
            <p:cNvPr id="78" name=""/>
            <p:cNvGrpSpPr/>
            <p:nvPr/>
          </p:nvGrpSpPr>
          <p:grpSpPr>
            <a:xfrm>
              <a:off x="1295280" y="4876920"/>
              <a:ext cx="838440" cy="152280"/>
              <a:chOff x="1295280" y="4876920"/>
              <a:chExt cx="838440" cy="152280"/>
            </a:xfrm>
          </p:grpSpPr>
          <p:sp>
            <p:nvSpPr>
              <p:cNvPr id="79" name=""/>
              <p:cNvSpPr/>
              <p:nvPr/>
            </p:nvSpPr>
            <p:spPr>
              <a:xfrm>
                <a:off x="1295280" y="502920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05120" y="487692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294920" y="5105160"/>
              <a:ext cx="838440" cy="152280"/>
              <a:chOff x="1294920" y="5105160"/>
              <a:chExt cx="838440" cy="15228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1294920" y="510552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294920" y="510516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we write the reaction in revers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         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n the new equilibrium constant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spcAft>
                <a:spcPts val="425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 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= 1/K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19160" y="2438280"/>
            <a:ext cx="838440" cy="380520"/>
            <a:chOff x="2819160" y="2438280"/>
            <a:chExt cx="838440" cy="380520"/>
          </a:xfrm>
        </p:grpSpPr>
        <p:grpSp>
          <p:nvGrpSpPr>
            <p:cNvPr id="87" name=""/>
            <p:cNvGrpSpPr/>
            <p:nvPr/>
          </p:nvGrpSpPr>
          <p:grpSpPr>
            <a:xfrm>
              <a:off x="2819520" y="2438280"/>
              <a:ext cx="838080" cy="152280"/>
              <a:chOff x="2819520" y="2438280"/>
              <a:chExt cx="838080" cy="152280"/>
            </a:xfrm>
          </p:grpSpPr>
          <p:sp>
            <p:nvSpPr>
              <p:cNvPr id="88" name=""/>
              <p:cNvSpPr/>
              <p:nvPr/>
            </p:nvSpPr>
            <p:spPr>
              <a:xfrm>
                <a:off x="2819520" y="259056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29000" y="243828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819160" y="2666520"/>
              <a:ext cx="838440" cy="152280"/>
              <a:chOff x="2819160" y="2666520"/>
              <a:chExt cx="838440" cy="15228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2819520" y="266688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2819160" y="266652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1981080" y="42670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with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we multiply the equation by a cons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         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n the equilibrium constant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K’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(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i="1" lang="en-US" sz="4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d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52320" y="2895480"/>
            <a:ext cx="838800" cy="381240"/>
            <a:chOff x="3352320" y="2895480"/>
            <a:chExt cx="838800" cy="381240"/>
          </a:xfrm>
        </p:grpSpPr>
        <p:grpSp>
          <p:nvGrpSpPr>
            <p:cNvPr id="97" name=""/>
            <p:cNvGrpSpPr/>
            <p:nvPr/>
          </p:nvGrpSpPr>
          <p:grpSpPr>
            <a:xfrm>
              <a:off x="3352680" y="2895480"/>
              <a:ext cx="838440" cy="152640"/>
              <a:chOff x="3352680" y="2895480"/>
              <a:chExt cx="838440" cy="152640"/>
            </a:xfrm>
          </p:grpSpPr>
          <p:sp>
            <p:nvSpPr>
              <p:cNvPr id="98" name=""/>
              <p:cNvSpPr/>
              <p:nvPr/>
            </p:nvSpPr>
            <p:spPr>
              <a:xfrm>
                <a:off x="3352680" y="304812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62520" y="2895480"/>
                <a:ext cx="22860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352320" y="3124080"/>
              <a:ext cx="838440" cy="152640"/>
              <a:chOff x="3352320" y="3124080"/>
              <a:chExt cx="838440" cy="15264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3352320" y="312408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52320" y="3124080"/>
                <a:ext cx="22860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828800" y="4876920"/>
            <a:ext cx="1828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4876920"/>
            <a:ext cx="2209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have two equations which we are adding to get a resulting equ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need to multiply the K from each equ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X 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sum of equations 1 +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units for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e determined by the various powers  and units of concentra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depend on the reac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ll usually cancel out to leave no uni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15T19:16:12Z</dcterms:created>
  <dc:creator>Thomas V. Green Jr.</dc:creator>
  <dc:description/>
  <cp:keywords/>
  <dc:language>en-US</dc:language>
  <cp:lastModifiedBy>FPS</cp:lastModifiedBy>
  <dcterms:modified xsi:type="dcterms:W3CDTF">2007-01-11T17:49:42Z</dcterms:modified>
  <cp:revision>14</cp:revision>
  <dc:subject/>
  <dc:title>Equilibrium</dc:title>
</cp:coreProperties>
</file>